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C95D-60C3-4DAE-8936-ADEE0000A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B1D-A0EE-4670-A19A-4EC04AC4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921-548C-409E-B6B4-40EC73BD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F25-BEE3-4EA6-BEFB-F8F8BD0A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5C4-381E-4A6A-A7F2-6963E4BD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C57-FED7-47C0-80CD-AD4E1FF8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D10-62B3-4145-869D-0307286E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011-B758-4FEB-94E6-D15D9046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F75-F2EC-464E-BCDC-E9A0D9A0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613-11D0-4012-9FDD-D1A9E9DE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C1F-8510-4FBD-8364-ADD03FE9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50A-4A5B-47A6-8CF9-F7292714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F2D-F0F1-4032-A38A-3591B562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D027-1021-4279-9703-305B78F27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0080" y="1752480"/>
            <a:ext cx="2514600" cy="176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95680" y="1771560"/>
            <a:ext cx="2522520" cy="1762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05120" y="3600360"/>
            <a:ext cx="2522520" cy="1771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495680" y="3600360"/>
            <a:ext cx="2522520" cy="1752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152280"/>
            <a:ext cx="8229600" cy="563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790640"/>
            <a:ext cx="5410080" cy="0"/>
          </a:xfrm>
          <a:prstGeom prst="line">
            <a:avLst/>
          </a:prstGeom>
          <a:ln w="104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a50021"/>
                </a:solidFill>
                <a:latin typeface="Arial Black"/>
              </a:rPr>
              <a:t>Jun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193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MTA Proposed 2005-2009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Capital Program Amendme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BE1-EC3F-4E15-9C9E-9231A6331B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   Inter-Ag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73664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stablishes MTA Planning Element for projects previously approved by the Board, to be funded from L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a Stadium Stations Investments ($32 mill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pan Zee Bridge EIS ($28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2D1-6A99-4023-831E-430BA83634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submitted for discussion and inp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amendment will be brought to Finance Committee and Board in 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ly will be submitted to CPRB for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DED-EB21-492C-BAC7-DF75BCEEEF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822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Programs are regularly amended, annually or semi-annually, to reflect changes in project scopes, costs or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hanges occur within the original program enve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mprehensive 05-09 amendment approved by Board in  December 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CPRB approved plan March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to the 05-09 Program were suspended during development of 2008-13 accelerated prog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bsence of Congestion Pricing, next program will follow original 10-14 perio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mendment reflects impacts of regional construction market conditions and new priorities since the last amend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this amendment were largely anticipated in 08-13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ncreases are offset by defer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deferred to next program will come at a higher cost than currently budg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today for consideration and comment; final amendment to be submitted at July Finance and Board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32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 of Proposed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7F5-B47C-4F0D-A2A4-25369761F2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FFGA’s for SAS and ESA previously approved by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64 million for SAS and the remaining balance of $267million for ESA (since April ‘07 Board amend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s funds from discontinued LaGuardia Airport Access project in 2000-2004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LGA-funded projects previously approved by Board (South Ferry, TZ Bridge Study, LMCCC and Shea station initia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s remaining LGA funds to NYCT ($80 million), LIRR ($16 million) and MNR ($11 million) to fund work that would otherwise have been in nex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RB approval required for these funding changes and program elements with increases greater than 10% since last CPRB approved plan (March ’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838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2860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CDC-92F0-44A7-9CEA-7BBCA6E8B2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569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y in Agency Priorities and Trade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ncreases reflect higher project costs and new priorit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given to fund projects that maximize safe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offs to Fund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 projects that were likely to occur late in the program or that are experiencing delays; reprogramming early into next program minimizes im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1B0-80F6-4A31-8114-B1DC7EEF99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York City Tran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2.3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5720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2.4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57200" y="3886200"/>
          <a:ext cx="4038480" cy="27352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9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 in 05-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Division Cars                               164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nd Buses to Replace Artics          88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23 Stations             340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shing CBTC and WPR Signals  194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ver Viaduct                                   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a Hale Depot                            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Prior Plan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57200" y="1479600"/>
            <a:ext cx="4038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 in 05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Div Growth Cars                       $200 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’l Paratransit                              33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od Control (LGA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/Screens at 44 Dark Stations      47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s Component Prog.             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523880"/>
            <a:ext cx="38862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 Artics                                   $54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 Station Rehabs                        279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 Plants                                   385                                 Tunnel Lighting                             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 Painting Projects         57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ver Line Signals                       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BL Interlocking                          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7th Overhaul Shop                   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Depot                             1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mer and Flatbush Depots          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Radio Project                          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L                                                 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 Track Project                             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248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038-62C5-42BC-8122-B9D3696633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Island Rail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4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57200" y="4267080"/>
          <a:ext cx="4038480" cy="2392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3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Fixation Track Repl,            $1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T Fire &amp; Life Safe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Track Program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ylon Car Wash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 Fit-Out (Phase 2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. of Way Repair Facility        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523880"/>
            <a:ext cx="434340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ushing/Flatbush Elevators (LGA) $1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Capacity Study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7 Hor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 Pain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ens Village Elevators           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Queens Projects (LGA)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Y Substa/Tower Reloc. Design   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1523880"/>
            <a:ext cx="40399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bylon to Patchogue Signals      $2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Interlocking Design              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auk Branch bridge rehabs         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way (Port Wash. Branch)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0th St. (Jamaica) bridge work         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y Interlocking Reconfig Design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n Sta. Facilities &amp; Yards work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9EF-03EE-47E2-AFB1-808E082E8B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-North Rail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4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on-Harmon Shop Master Plan $1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of Hudson Locomotives (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-Life Remanufactu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$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landt Parking– CMAQ funded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ghkeepsie Station Building         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wart Airport A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57200" y="1600200"/>
            <a:ext cx="403848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Employee Facilities Rehab.  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x Stas/Capacity Imprvmts (LGA)   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ral Hat Bldg Purch. (Beacon, NY)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523880"/>
            <a:ext cx="4040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2 CSR (superseded by  M-8s)    $1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rytown Platform/Overpass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Leaks Remedi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ton-Harmon/Peekskill Sta. work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con Line Undergrade bridges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HL Undergrade bridge work (2)      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429-99FA-4745-A882-6024F2D0E4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48320" y="1523880"/>
            <a:ext cx="4154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yHudson U/L TollPlaza decks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borough decks-Toll Plaza/Ramp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BT Elect. System upgrad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Anch&amp;Tower Pro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Orthotropic deck rehab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olations Enforcement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 Automated Trf. 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nd Generation E-Zpass In-La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t Pkwy Ramp widening desig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767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s and Tu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4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72000" y="914400"/>
          <a:ext cx="4176720" cy="38088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3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x-Whtstne Approach Decks       $4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gs Nk Concrete Deck Repl.       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razano Approach Deck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borough Bldg 104 rehab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T Ventilation rehabilitation        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ens Midtown building rehabs.   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457200" y="1523880"/>
            <a:ext cx="40384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razano Structural Steel Rprs.  $1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113-74AC-4DC8-AE15-6F9DCCE797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Capital Construction Compan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371600"/>
            <a:ext cx="815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budget increases from $6.325 billion to $7.394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remaining $267 million from FFGA to ESA ($1.255 b added in April Board amend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FFGA’s $764 million to 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ost growth identified in 2008-2013 Program is not reflected in amendment;  will be incorporated in next capit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incorporates two projects previously approved by the board, to be funded with $37.7 million from LGA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South Ferry Terminal ($27.3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MTA’s share of Lower Manhattan Construction Command Center ($10.4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RB approval will be needed to add FFGA funds, which are critical to the progression of ESA in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1DA-61E2-45CF-A6D5-CBF8AD8073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4:26:21Z</dcterms:created>
  <dc:creator>MTA</dc:creator>
  <dc:description/>
  <dc:language>en-US</dc:language>
  <cp:lastModifiedBy>MTA</cp:lastModifiedBy>
  <dcterms:modified xsi:type="dcterms:W3CDTF">2008-06-23T14:23:28Z</dcterms:modified>
  <cp:revision>264</cp:revision>
  <dc:subject/>
  <dc:title>Sizing the Core Program</dc:title>
</cp:coreProperties>
</file>